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D75-AAF7-4AA5-BE51-330E0F33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E95-7699-4C98-869E-5A85814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C33-1462-41EB-946B-F57064CD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52F-8428-4737-BDC1-660F0D80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0529-7076-44C0-8D3E-E4EAAEFA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D52B-0EBD-4A69-A362-EAE549E2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0B70-2D44-4E2A-B217-ED6A1A3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C64C-0FCF-45C7-A186-B2D7581B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ED3E-5ECE-4DFB-A2C6-FF6171A9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132-1951-4F13-9A31-DD3043B9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48B7-3724-4864-A664-FF117D2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FAE-ED59-404F-8891-06454827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A01F-A784-48A1-9C70-7744338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A451-4CE8-40AD-98F3-9F4DBBE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4F1D-1928-4004-AACB-C7DF45B8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DA02-3EBA-4AD7-AF0E-079FAF9A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A1F8-3094-40AF-975C-5B7A842C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8BA-8C7E-4FD1-9E95-2FE91E19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BED-C7CF-4EE6-8EB2-E4C7DC1F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21B-DFD9-4630-B57D-47047724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D14-8E75-4AF0-92D6-26384918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D1D-D656-442D-8265-671CB1AA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E9E-D298-4E73-834C-4F8072C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418-53C9-4EC4-876B-DFE8399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482-626F-42F2-9CC1-0507F7FA033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4C9-624C-4201-9653-B0BE35C607A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statistics_explained/images/0/03/Weighted_emissions_of_acidifying_substances%2C_by_sector%2C_EU-27%2C_2005_%281%29%28%25%2C_based_on_acid_equivalents%29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cWpkWBX04E&amp;feature=related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ir Pollut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I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05740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damage that results from chemicals that are released into the environmen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hemical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umans (emissions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condary Polluta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uel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lease of noxious gas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143240" cy="2886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48769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jor contributor to the world’s atmospheric decomposit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715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ost common results of pollution: smog, acid rain, and the increasing “greenhouse effect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ttp://www.lbl.gov/Education/ELSI/pollution-main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ttp://www.epa.gov/ebtpages/ai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ttp://healthandenergy.com/air_pollution_causes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ttp://library.thinkquest.org/26026/Environmental_Problems/air_pollution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m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ype of large-scale outdoor pollu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xhaust from automobiles and emissions from industrial plants contribute to smog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ypically smog resides in metropolitan area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mon during warmer times of yea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mog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oud that forms from pollutants released into the environme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3848040" cy="2600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00600" y="44956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lso called “ground-level ozone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mog has permanent effects on the respiratory system and hear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ghly-acidic rain is a result of air pollution (low pH level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missions react with water molecules in the environ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rmful effects on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quatic li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frastruct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87692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st common gas that contributes to acid rain is sulfur dioxid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5529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636480"/>
            <a:ext cx="670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Greenhouse Effe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ult of over-abundance of carbon dioxide in the atmospher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nts can’t consume and convert it from humans quickly enoug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yer is created close to the surface of the earth; warm air is trapp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2971800"/>
            <a:ext cx="2895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d thickness of carbon dioxide layer is what scientists believe is the main cause of climate chan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reenhouse effect causes world temperatures to increase (even a few degrees can effect habitats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867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85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fforts to Improv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rary to popular belief, Americans have actually decreased the amount of emissions in recent years, according to the EPA (Environmental Protection Agency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That being said, the U.S. is still a primary contributor to the world’s overall pollution crisis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 an effort to more clearly define the way the environment and the nation’s air quality should be treated, the Clean Air Act was passed in 1990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lfur dioxide emissions, the most common pollutant from factories, statistically decreased in the United States in the last decad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ost likely due to better education, the automobile industry has produced more economically-friendly ca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version to cleaner fuels (biodiesel, electricit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jor contributor to world’s air pollution is rooted in China (disregard for ozone and a need to industrialize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ir Pollution Statist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00,000 Chinese citizens die prematurely each year from respiratory illnesses and other diseases due to air pollution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 the past 150 years, humans have pumped enough carbon dioxide into the atmosphere to raise CO2 levels higher than they have been for hundreds of thousands of year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cientists equate breathing in the air in China for one day to smoking two packs of cigarett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File:Weighted emissions of acidifying substances, by sector, EU-27, 2005 (1)(%, based on acid equivalents)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9880"/>
            <a:ext cx="59436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youtube.com/watch?v=UcWpkWBX04E&amp;feature=related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choking earth"/>
          <p:cNvPicPr/>
          <p:nvPr/>
        </p:nvPicPr>
        <p:blipFill>
          <a:blip r:embed="rId2"/>
          <a:stretch/>
        </p:blipFill>
        <p:spPr>
          <a:xfrm>
            <a:off x="2971800" y="3124080"/>
            <a:ext cx="32767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8:52:57Z</dcterms:created>
  <dc:creator>SASD</dc:creator>
  <dc:description/>
  <dc:language>en-US</dc:language>
  <cp:lastModifiedBy>Trevor Van Gorden</cp:lastModifiedBy>
  <dcterms:modified xsi:type="dcterms:W3CDTF">2010-03-02T01:27:48Z</dcterms:modified>
  <cp:revision>53</cp:revision>
  <dc:subject/>
  <dc:title>Air Pollution</dc:title>
</cp:coreProperties>
</file>